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EE1-894C-4486-9240-254CB341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6BAE-D7DE-41F8-97A8-C64F25D0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2413-9626-4E22-A2A3-0375A0BE2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4793-0E90-4966-A155-6D88FB8B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2CC0-2BFB-458D-BF0C-BAAA00FF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6D87-D491-4984-BECB-08DCD861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9D0-3B02-453F-99AC-D37856BE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FA95-3F40-44A4-9668-6FA0D1A9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209-88A8-449B-90E8-120814C1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6B75-F685-4B85-86F4-F6BA82ED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DAE-DB09-4DF1-B667-D153BA67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E2C5-0335-4604-AE40-CD65AB70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C447-9FA6-462F-B236-FAAD496F2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20:02:20Z</dcterms:created>
  <dc:creator>Dana</dc:creator>
  <dc:description/>
  <dc:language>en-US</dc:language>
  <cp:lastModifiedBy>Dana</cp:lastModifiedBy>
  <dcterms:modified xsi:type="dcterms:W3CDTF">2010-04-21T20:02:37Z</dcterms:modified>
  <cp:revision>1</cp:revision>
  <dc:subject/>
  <dc:title>Diapozitivul 1</dc:title>
</cp:coreProperties>
</file>